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303200" y="683280"/>
            <a:ext cx="4495680" cy="33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10280" y="4271400"/>
            <a:ext cx="5681880" cy="40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my notes for 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1" name="">
            <a:hlinkClick r:id="" action="ppaction://hlinkshowjump?jump=endshow"/>
          </p:cNvPr>
          <p:cNvSpPr/>
          <p:nvPr/>
        </p:nvSpPr>
        <p:spPr>
          <a:xfrm>
            <a:off x="8431200" y="101520"/>
            <a:ext cx="361800" cy="362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>
            <a:hlinkClick r:id="" action="ppaction://hlinkshowjump?jump=lastslide"/>
          </p:cNvPr>
          <p:cNvSpPr/>
          <p:nvPr/>
        </p:nvSpPr>
        <p:spPr>
          <a:xfrm>
            <a:off x="7896240" y="0"/>
            <a:ext cx="460440" cy="576360"/>
          </a:xfrm>
          <a:custGeom>
            <a:avLst/>
            <a:gdLst>
              <a:gd name="textAreaLeft" fmla="*/ 29520 w 460440"/>
              <a:gd name="textAreaRight" fmla="*/ 430920 w 460440"/>
              <a:gd name="textAreaTop" fmla="*/ 29520 h 576360"/>
              <a:gd name="textAreaBottom" fmla="*/ 546840 h 576360"/>
            </a:gdLst>
            <a:ahLst/>
            <a:rect l="textAreaLeft" t="textAreaTop" r="textAreaRight" b="textAreaBottom"/>
            <a:pathLst>
              <a:path w="21600" h="27034">
                <a:moveTo>
                  <a:pt x="0" y="0"/>
                </a:moveTo>
                <a:lnTo>
                  <a:pt x="21600" y="0"/>
                </a:lnTo>
                <a:lnTo>
                  <a:pt x="21600" y="27034"/>
                </a:lnTo>
                <a:lnTo>
                  <a:pt x="0" y="27034"/>
                </a:lnTo>
                <a:close/>
              </a:path>
              <a:path fill="lightenLess" w="21600" h="270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4">
                <a:moveTo>
                  <a:pt x="21600" y="0"/>
                </a:moveTo>
                <a:lnTo>
                  <a:pt x="21600" y="27034"/>
                </a:lnTo>
                <a:lnTo>
                  <a:pt x="20200" y="25634"/>
                </a:lnTo>
                <a:lnTo>
                  <a:pt x="20200" y="1400"/>
                </a:lnTo>
                <a:close/>
              </a:path>
              <a:path fill="darkenLess" w="21600" h="27034">
                <a:moveTo>
                  <a:pt x="21600" y="27034"/>
                </a:moveTo>
                <a:lnTo>
                  <a:pt x="0" y="27034"/>
                </a:lnTo>
                <a:lnTo>
                  <a:pt x="1400" y="25634"/>
                </a:lnTo>
                <a:lnTo>
                  <a:pt x="20200" y="25634"/>
                </a:lnTo>
                <a:close/>
              </a:path>
              <a:path fill="lighten" w="21600" h="27034">
                <a:moveTo>
                  <a:pt x="0" y="27034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firstslide"/>
          </p:cNvPr>
          <p:cNvSpPr/>
          <p:nvPr/>
        </p:nvSpPr>
        <p:spPr>
          <a:xfrm>
            <a:off x="7469280" y="101520"/>
            <a:ext cx="361800" cy="362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firstslide"/>
          </p:cNvPr>
          <p:cNvSpPr/>
          <p:nvPr/>
        </p:nvSpPr>
        <p:spPr>
          <a:xfrm>
            <a:off x="304920" y="266760"/>
            <a:ext cx="736560" cy="749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77680" y="912960"/>
            <a:ext cx="53013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  <a:ea typeface="Times New Roman"/>
              </a:rPr>
              <a:t>Revolution and Nationalism,</a:t>
            </a:r>
            <a:br>
              <a:rPr sz="3000"/>
            </a:br>
            <a:r>
              <a:rPr b="1" lang="en-US" sz="3000" spc="-1" strike="noStrike">
                <a:solidFill>
                  <a:srgbClr val="cc0000"/>
                </a:solidFill>
                <a:latin typeface="Arial"/>
                <a:ea typeface="Times New Roman"/>
              </a:rPr>
              <a:t>1900–1939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73360" y="1936800"/>
            <a:ext cx="6886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olitical upheavals lead to the formation of a totalitarian state in Russia, civil war in China, and limited self-rule in India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131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73360" y="2174760"/>
            <a:ext cx="57369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ivil War Rages in Rus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ivil War between Bolsheviks’ Red Army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osely allied White Arm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d Army wins three-year war that leaves 14 mill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73360" y="3689280"/>
            <a:ext cx="57369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ring World Rev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ussian, French Revolutions similar—both attemp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 remake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79840" y="1690560"/>
            <a:ext cx="342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The Bolshevik Rev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74080" y="1598760"/>
            <a:ext cx="33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Lenin Restores Ord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142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773360" y="2174760"/>
            <a:ext cx="573696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w Economic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March 1921, Lenin launches New Economi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licy; has some capital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P and peace restore economy shattered by wa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v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1928, Russia’s farms, factories are productiv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g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73360" y="4251240"/>
            <a:ext cx="573696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litical Re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nin creates self-governing republics und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tional gover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1922, country renamed Union of Soviet Sociali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publics (U.S.S.R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Communist Par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new name taken by Bolshevik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rom writings of Mar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74440" y="1598760"/>
            <a:ext cx="37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Stalin Becomes Dictat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152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1773360" y="2174760"/>
            <a:ext cx="573696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New L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otsky and Stalin compete to replace Lenin wh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 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Joseph Stal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cold, hard Communist Part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neral secretary in 19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lin gains power from 1922 to 19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nin dies in 19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alin gains complete control in 1928; Trotsky forc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to exi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370160" y="3940200"/>
            <a:ext cx="678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fter Lenin dies, Stalin seizes power and transforms the Soviet Union into a totalitarian st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370160" y="2397240"/>
            <a:ext cx="6800400" cy="1519920"/>
            <a:chOff x="1370160" y="2397240"/>
            <a:chExt cx="6800400" cy="1519920"/>
          </a:xfrm>
        </p:grpSpPr>
        <p:grpSp>
          <p:nvGrpSpPr>
            <p:cNvPr id="161" name=""/>
            <p:cNvGrpSpPr/>
            <p:nvPr/>
          </p:nvGrpSpPr>
          <p:grpSpPr>
            <a:xfrm>
              <a:off x="1370160" y="2397240"/>
              <a:ext cx="6800400" cy="1032840"/>
              <a:chOff x="1370160" y="2397240"/>
              <a:chExt cx="6800400" cy="1032840"/>
            </a:xfrm>
          </p:grpSpPr>
          <p:sp>
            <p:nvSpPr>
              <p:cNvPr id="162" name=""/>
              <p:cNvSpPr/>
              <p:nvPr/>
            </p:nvSpPr>
            <p:spPr>
              <a:xfrm>
                <a:off x="1370160" y="2397240"/>
                <a:ext cx="4310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Arial"/>
                  </a:rPr>
                  <a:t>Section 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370160" y="2787480"/>
                <a:ext cx="6800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003399"/>
                    </a:solidFill>
                    <a:latin typeface="Arial"/>
                    <a:ea typeface="Times New Roman"/>
                  </a:rPr>
                  <a:t>Totalitarianism </a:t>
                </a:r>
                <a:endParaRPr b="0" lang="en-US" sz="4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1400040" y="3457440"/>
              <a:ext cx="579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b6e19"/>
                  </a:solidFill>
                  <a:latin typeface="Arial"/>
                  <a:ea typeface="Times New Roman"/>
                </a:rPr>
                <a:t>CASE STUDY: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Stalinist Russi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771200" y="1827360"/>
            <a:ext cx="472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A Government of Total Contr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70520" y="941400"/>
            <a:ext cx="299268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6e19"/>
                </a:solidFill>
                <a:latin typeface="Arial"/>
                <a:ea typeface="Times New Roman"/>
              </a:rPr>
              <a:t>Totalitarianis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828800" y="22845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170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66200" y="1344600"/>
            <a:ext cx="37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b6e19"/>
                </a:solidFill>
                <a:latin typeface="Arial"/>
              </a:rPr>
              <a:t>CASE STUDY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talinist Russ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73360" y="2351160"/>
            <a:ext cx="57369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talitarianis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Centralized State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Totalitarianis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government that dominates eve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pect of lif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talitarian leader often dynamic, persuas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773360" y="3598920"/>
            <a:ext cx="573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lice T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overnment uses police to spy on, intimidate peo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773360" y="4303800"/>
            <a:ext cx="57369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doctr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overnment shapes people’s minds through slant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782720" y="1593720"/>
            <a:ext cx="399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A Government of Total Control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184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1773360" y="2263680"/>
            <a:ext cx="57369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paganda and Censor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overnment controls all mass media, crush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posing vie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773360" y="3235320"/>
            <a:ext cx="57369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ligious or Ethnic Persec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aders brand religious, ethnic minorities “enem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the state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770120" y="1598760"/>
            <a:ext cx="492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Stalin Builds a Totalitarian St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773360" y="2174760"/>
            <a:ext cx="54450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lice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lin’s police attack opponents with public forc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cret 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Great Pur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terror campaign against Stalin’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ceived enem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the end of 1938, Stalin in complete control; 8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 million d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194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73360" y="4237200"/>
            <a:ext cx="57369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ussian Propaganda and Censor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overnment controls newspapers, radio, 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tists censored, controlled; work harnessed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lorify the Par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783440" y="1690560"/>
            <a:ext cx="41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Stalin Builds a Totalitarian Sta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773360" y="2174760"/>
            <a:ext cx="58006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ducation and Indoctr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overnment controls all education, from early grad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colle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ildren learn the virtues of the Communist Par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chers, students who challenge the Party a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nish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206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1773360" y="3970440"/>
            <a:ext cx="57369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ligious Persec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overnment attacks Russian Orthodox Chu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gnificent churches, synagogues destroyed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igious leaders kill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eople lose all personal rights, freedom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774800" y="2174760"/>
            <a:ext cx="58942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w Economic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Command econom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government makes al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conomic deci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71200" y="1593720"/>
            <a:ext cx="567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Stalin Seizes Control of the Econom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774800" y="3132000"/>
            <a:ext cx="56548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 Industrial Rev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Five-Year Pla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Stalin’s plans for developing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conom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ult: large growth in industrial power; shortag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umer go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774800" y="4656240"/>
            <a:ext cx="56548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 Agricultural Rev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1928, government creates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collective far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rge, owned by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asants resist this change; 5–10 million die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ackd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y 1938, agricultural production ris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218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774800" y="2174760"/>
            <a:ext cx="58942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ins at Great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ople better educated, gain new ski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mited personal freedoms; few consumer go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71920" y="1593720"/>
            <a:ext cx="35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Daily Life Under Stal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74800" y="3151080"/>
            <a:ext cx="565488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omen Gain Righ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unists say women are equal to 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men forced to join labor force; state provid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ild c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y women receive advanced education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come professio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omen suffer from demands of work, famil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228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77680" y="912960"/>
            <a:ext cx="53013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  <a:ea typeface="Times New Roman"/>
              </a:rPr>
              <a:t>Revolution and Nationalism,</a:t>
            </a:r>
            <a:br>
              <a:rPr sz="3000"/>
            </a:br>
            <a:r>
              <a:rPr b="1" lang="en-US" sz="3000" spc="-1" strike="noStrike">
                <a:solidFill>
                  <a:srgbClr val="cc0000"/>
                </a:solidFill>
                <a:latin typeface="Arial"/>
                <a:ea typeface="Times New Roman"/>
              </a:rPr>
              <a:t>1900–193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" action="ppaction://hlinksldjump"/>
          </p:cNvPr>
          <p:cNvSpPr/>
          <p:nvPr/>
        </p:nvSpPr>
        <p:spPr>
          <a:xfrm>
            <a:off x="2046240" y="2511360"/>
            <a:ext cx="1741680" cy="3812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2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2" action="ppaction://hlinksldjump"/>
          </p:cNvPr>
          <p:cNvSpPr/>
          <p:nvPr/>
        </p:nvSpPr>
        <p:spPr>
          <a:xfrm>
            <a:off x="2046240" y="3073320"/>
            <a:ext cx="1741680" cy="3812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2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3" action="ppaction://hlinksldjump"/>
          </p:cNvPr>
          <p:cNvSpPr/>
          <p:nvPr/>
        </p:nvSpPr>
        <p:spPr>
          <a:xfrm>
            <a:off x="2046240" y="3606840"/>
            <a:ext cx="1741680" cy="3808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2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4" action="ppaction://hlinksldjump"/>
          </p:cNvPr>
          <p:cNvSpPr/>
          <p:nvPr/>
        </p:nvSpPr>
        <p:spPr>
          <a:xfrm>
            <a:off x="2046240" y="4140360"/>
            <a:ext cx="1741680" cy="3808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2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46960" y="2502000"/>
            <a:ext cx="27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volutions in Russ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48760" y="3078000"/>
            <a:ext cx="352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b6e19"/>
                </a:solidFill>
                <a:latin typeface="Arial"/>
                <a:ea typeface="Times New Roman"/>
              </a:rPr>
              <a:t>CASE STUDY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Totalitarianis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46960" y="3591000"/>
            <a:ext cx="308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mperial China Collaps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45880" y="4129200"/>
            <a:ext cx="479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ationalism in India and Southwest As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5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774800" y="2174760"/>
            <a:ext cx="589428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werful Ru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mid-1930s, Stalin has transformed Soviet Un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talitarian regime; industrial, political 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lin controls all aspects of Soviet lif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opposed as dictator, Communist Party l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ules by terror instead of constitutional gover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mands conformity, obed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773360" y="1593720"/>
            <a:ext cx="36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Total Control Achiev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237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370160" y="2486160"/>
            <a:ext cx="7137720" cy="1057680"/>
            <a:chOff x="1370160" y="2486160"/>
            <a:chExt cx="7137720" cy="1057680"/>
          </a:xfrm>
        </p:grpSpPr>
        <p:sp>
          <p:nvSpPr>
            <p:cNvPr id="241" name=""/>
            <p:cNvSpPr/>
            <p:nvPr/>
          </p:nvSpPr>
          <p:spPr>
            <a:xfrm>
              <a:off x="1371600" y="248616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Section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370160" y="2867040"/>
              <a:ext cx="7137720" cy="67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Imperial China Collapses 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1370160" y="3514680"/>
            <a:ext cx="677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fter the fall of the Qing dynasty, nationalist and Communist movements struggle for pow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71560" y="1827360"/>
            <a:ext cx="565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Nationalists Overthrow Qing Dynas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73360" y="2403360"/>
            <a:ext cx="57880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New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Kuominta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Nationalist Party of China—calls f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rn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Sun Yixi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first great leader of Nationalist Par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1911, Nationalists overthrow Qing dynast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828800" y="22845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51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70520" y="885960"/>
            <a:ext cx="4813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6e19"/>
                </a:solidFill>
                <a:latin typeface="Arial"/>
                <a:ea typeface="Times New Roman"/>
              </a:rPr>
              <a:t>Imperial China Collapse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773360" y="3938760"/>
            <a:ext cx="63752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haky Start for the New Repub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1912, Sun takes control as presid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cks three principles: nationalism, democracy, economi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cu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o national agreement on rule; civil war breaks out in 19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5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773360" y="2174760"/>
            <a:ext cx="544500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orld War I Spells More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ina enters war against Germany hoping to ga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d held by Germa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eaty of Versailles gives German colonies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ina to Jap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 May 4, 1919, angry students protest thi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gre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May Fourth Move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nationalist movem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at spreads across Ch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ny young nationalists turn against Sun Yixi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63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1784880" y="1690560"/>
            <a:ext cx="458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Nationalists Overthrow Qing Dynas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772280" y="1598760"/>
            <a:ext cx="47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The Communist Party in Chi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773360" y="2174760"/>
            <a:ext cx="5445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ise of a New L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Mao Zedo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helps form Chinese Communi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ty in 19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792440" y="3114720"/>
            <a:ext cx="57369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enin Befriends Ch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1923, Lenin helps Nationalists, who agree to wor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 Communi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74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1773360" y="4048200"/>
            <a:ext cx="57369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asants Align with the Commun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Jiang Jiesh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Nationalist leader after Sun dies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poses commu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asants see no gain for them in Jiang’s plans, the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ck Communi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000"/>
                            </p:stCondLst>
                            <p:childTnLst>
                              <p:par>
                                <p:cTn id="5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50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83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1773360" y="2171880"/>
            <a:ext cx="57369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ationalists and Communists Cla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1927, Nationalists kill Communists, unionists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hangha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1928, Jiang becomes president; Communis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sist his ru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781640" y="1690560"/>
            <a:ext cx="389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The Communist Party in Ch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500"/>
                            </p:stCondLst>
                            <p:childTnLst>
                              <p:par>
                                <p:cTn id="5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772280" y="1598760"/>
            <a:ext cx="38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Civil War Rages in Chi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773360" y="2174760"/>
            <a:ext cx="5445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stility Becomes W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1930, civil war rages; Mao recruits a peasant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uerrilla arm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94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1773360" y="3162240"/>
            <a:ext cx="573696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Long M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1933, Jiang’s huge army surrounds outnumber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uni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Long Mar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Communists’ 6,000-mile journey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fety in nor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f 100,000 Communists, 7,000 or 8,000 survive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773360" y="5211720"/>
            <a:ext cx="57369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ivil War Suspen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eing chaos in China, Japan launches all-ou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vasion in 193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ationalists and Communists join together to figh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Jap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1371240" y="2486160"/>
            <a:ext cx="6753600" cy="1640520"/>
            <a:chOff x="1371240" y="2486160"/>
            <a:chExt cx="6753600" cy="1640520"/>
          </a:xfrm>
        </p:grpSpPr>
        <p:sp>
          <p:nvSpPr>
            <p:cNvPr id="301" name=""/>
            <p:cNvSpPr/>
            <p:nvPr/>
          </p:nvSpPr>
          <p:spPr>
            <a:xfrm>
              <a:off x="1371600" y="248616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Section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371240" y="2867040"/>
              <a:ext cx="6753600" cy="12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Nationalism in India and</a:t>
              </a:r>
              <a:br>
                <a:rPr sz="4500"/>
              </a:b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Southwest Asia 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1370160" y="4100400"/>
            <a:ext cx="60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tionalism triggers independence movements to overthrow colonial pow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000"/>
                            </p:stCondLst>
                            <p:childTnLst>
                              <p:par>
                                <p:cTn id="5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500"/>
                            </p:stCondLst>
                            <p:childTnLst>
                              <p:par>
                                <p:cTn id="5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774800" y="2403360"/>
            <a:ext cx="54658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wo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gress Party—mostly Hindus; Musli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ague—Musli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th want South Asia to be independent of Brit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827360" y="22827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770840" y="1822320"/>
            <a:ext cx="40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Indian Nationalism Grow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311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74880" y="96840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72680" y="941400"/>
            <a:ext cx="455904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6e19"/>
                </a:solidFill>
                <a:latin typeface="Arial"/>
                <a:ea typeface="Times New Roman"/>
              </a:rPr>
              <a:t>Nationalism in India and</a:t>
            </a:r>
            <a:br>
              <a:rPr sz="3000"/>
            </a:br>
            <a:r>
              <a:rPr b="1" lang="en-US" sz="3000" spc="-1" strike="noStrike">
                <a:solidFill>
                  <a:srgbClr val="cb6e19"/>
                </a:solidFill>
                <a:latin typeface="Arial"/>
                <a:ea typeface="Times New Roman"/>
              </a:rPr>
              <a:t>Southwest Asia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773360" y="3668760"/>
            <a:ext cx="573696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orld War I Increases Nationalist 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ritish promise steps to self-government in return f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ar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fter war, no changes; resentment grows acro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me radicals carry out acts of violence in prot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ritish pass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Rowlatt Ac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1919), tough law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tended to end diss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500"/>
                            </p:stCondLst>
                            <p:childTnLst>
                              <p:par>
                                <p:cTn id="5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1000"/>
                            </p:stCondLst>
                            <p:childTnLst>
                              <p:par>
                                <p:cTn id="5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774800" y="2174760"/>
            <a:ext cx="5465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mritsar Massac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spring 1919, 10,000 Hindus and Muslims go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ity of Amrits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ritish alarmed by size of crowd, presenc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tionalist lea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litary commander thinks crowd is ignoring b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 public mee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oops fire on unarmed crowd; 400 killed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,200 wound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s of this event, the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Amritsar Massac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parks anger nationwi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322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874880" y="96840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1782720" y="1690560"/>
            <a:ext cx="349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Indian Nationalism G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0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500"/>
                            </p:stCondLst>
                            <p:childTnLst>
                              <p:par>
                                <p:cTn id="6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1000"/>
                            </p:stCondLst>
                            <p:childTnLst>
                              <p:par>
                                <p:cTn id="6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370160" y="2486160"/>
            <a:ext cx="6311880" cy="1057680"/>
            <a:chOff x="1370160" y="2486160"/>
            <a:chExt cx="6311880" cy="1057680"/>
          </a:xfrm>
        </p:grpSpPr>
        <p:sp>
          <p:nvSpPr>
            <p:cNvPr id="61" name=""/>
            <p:cNvSpPr/>
            <p:nvPr/>
          </p:nvSpPr>
          <p:spPr>
            <a:xfrm>
              <a:off x="1371600" y="248616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Section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370160" y="2867040"/>
              <a:ext cx="6311880" cy="67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Revolutions in Russia 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373040" y="3551400"/>
            <a:ext cx="653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ong-term social unrest in Russia explo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 revolution, and ushers in the first Commun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overn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74800" y="2174760"/>
            <a:ext cx="54658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spiring L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Mohandas K. Gandh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becomes leader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ependence mo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 ideas blending many religions, he becom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werful l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771920" y="1593720"/>
            <a:ext cx="497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Gandhi’s Tactics of Nonviol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332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874880" y="96840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773360" y="3706920"/>
            <a:ext cx="57369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ncoop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andhi urges </a:t>
            </a:r>
            <a:r>
              <a:rPr b="1" lang="en-US" sz="1800" spc="-1" strike="noStrike">
                <a:solidFill>
                  <a:srgbClr val="339933"/>
                </a:solidFill>
                <a:latin typeface="Arial"/>
                <a:ea typeface="Arial"/>
              </a:rPr>
              <a:t>civil disobed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noncooper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 British r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1920, the Congress Party backs the id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773360" y="4964040"/>
            <a:ext cx="57369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oycot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andhi urges boycott of British goods, school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xes, el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fusal to buy British cloth cuts into important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xtile indust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0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500"/>
                            </p:stCondLst>
                            <p:childTnLst>
                              <p:par>
                                <p:cTn id="6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000"/>
                            </p:stCondLst>
                            <p:childTnLst>
                              <p:par>
                                <p:cTn id="6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774800" y="2174760"/>
            <a:ext cx="54658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rikes and Demonst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ivil disobedience takes an economic toll on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riti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ousands of striking Indians arrested; jail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verely overcrow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343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874880" y="96840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1782720" y="1690560"/>
            <a:ext cx="413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Gandhi’s Tactics of Nonviolen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773360" y="3716280"/>
            <a:ext cx="573696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Salt M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1930, Gandhi organizes protest of Salt 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laws force Indians to buy salt from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over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Salt Mar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240-mile walk led by Gandhi to colle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awater for sa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ritish police brutalize protestors; Indians ga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orldwide suppo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0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500"/>
                            </p:stCondLst>
                            <p:childTnLst>
                              <p:par>
                                <p:cTn id="6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74800" y="2174760"/>
            <a:ext cx="546588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dian Vi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1935, Parliament passes the Government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ia 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t gives India local self-government and som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ection re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ct does nothing to calm rising tension betwe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uslims and Hind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770480" y="1593720"/>
            <a:ext cx="487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Britain Grants Limited Self-R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354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874880" y="96840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0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000"/>
                            </p:stCondLst>
                            <p:childTnLst>
                              <p:par>
                                <p:cTn id="6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774800" y="2174760"/>
            <a:ext cx="546588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urkey Becomes a Repub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Mustafa Kem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Turkish general wh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verthrows Ottoman sult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1923, Kemal becomes president of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public of Tur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lits government from religion, moderniz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ur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emal dies in 1938; given name Ataturk (“fath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f the Turks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771560" y="1593720"/>
            <a:ext cx="47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Nationalism in Southwest As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363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874880" y="96840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773360" y="4811760"/>
            <a:ext cx="57369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rsia Becomes Ir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ritish effort to take Persia after World War I spu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tionalist revo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1921, Reza Shah Pahlavi takes power and begi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oderniz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0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1500"/>
                            </p:stCondLst>
                            <p:childTnLst>
                              <p:par>
                                <p:cTn id="7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774800" y="2174760"/>
            <a:ext cx="54658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udi Arabia Keeps Islamic Trad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1932, Abd al-Aziz Ibn Saud unifies Arabia 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udi Arab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eeps many Islamic traditions, but moderniz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fe in some w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effort to bring democr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373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874880" y="96840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1783080" y="1690560"/>
            <a:ext cx="395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Nationalism in Southwest Asi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773360" y="3983040"/>
            <a:ext cx="573696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il Drives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ing demand for oil leads to exploration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uthwest As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scovery of oil in 1920s and 1930s brings new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eign invest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estern nations try to dominate the region to kee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trol of o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0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500"/>
                            </p:stCondLst>
                            <p:childTnLst>
                              <p:par>
                                <p:cTn id="7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1000"/>
                            </p:stCondLst>
                            <p:childTnLst>
                              <p:par>
                                <p:cTn id="7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2344680" y="2827440"/>
            <a:ext cx="61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This is the end of the chapter presentation of lecture notes. Click the HOME or EXIT butt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8381880" y="6010200"/>
            <a:ext cx="4953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0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8402760" y="6443640"/>
            <a:ext cx="512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BAC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>
            <a:hlinkClick r:id="" action="ppaction://hlinkshowjump?jump=endshow"/>
          </p:cNvPr>
          <p:cNvSpPr/>
          <p:nvPr/>
        </p:nvSpPr>
        <p:spPr>
          <a:xfrm>
            <a:off x="8431200" y="111240"/>
            <a:ext cx="361800" cy="36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>
            <a:hlinkClick r:id="" action="ppaction://hlinkshowjump?jump=firstslide"/>
          </p:cNvPr>
          <p:cNvSpPr/>
          <p:nvPr/>
        </p:nvSpPr>
        <p:spPr>
          <a:xfrm>
            <a:off x="304920" y="266760"/>
            <a:ext cx="736560" cy="749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>
            <a:hlinkClick r:id="" action="ppaction://hlinkshowjump?jump=previousslide"/>
          </p:cNvPr>
          <p:cNvSpPr/>
          <p:nvPr/>
        </p:nvSpPr>
        <p:spPr>
          <a:xfrm>
            <a:off x="8408880" y="6045120"/>
            <a:ext cx="438120" cy="438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305160" y="1274760"/>
            <a:ext cx="5457960" cy="28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t Slide Sh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 O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enu, selec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 In the pop-up menu, selec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crosoft PowerPoi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 dialog box does not include this pop-up, continue to step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 I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nt wha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ox, choose the presentation format you want to print: slides, notes, handouts, or out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Click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utton to print the PowerPoint 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>
            <a:hlinkClick r:id="" action="ppaction://hlinkshowjump?jump=firstslide"/>
          </p:cNvPr>
          <p:cNvSpPr/>
          <p:nvPr/>
        </p:nvSpPr>
        <p:spPr>
          <a:xfrm>
            <a:off x="7469280" y="101520"/>
            <a:ext cx="361800" cy="362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411120" y="1644480"/>
            <a:ext cx="2816280" cy="210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0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76240" y="1827360"/>
            <a:ext cx="32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Czars Resist 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70520" y="941400"/>
            <a:ext cx="426492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6e19"/>
                </a:solidFill>
                <a:latin typeface="Arial"/>
                <a:ea typeface="Times New Roman"/>
              </a:rPr>
              <a:t>Revolutions in Russia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73360" y="2403360"/>
            <a:ext cx="566712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d to Re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1881, Alexander III becomes czar, ends re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titutes autocratic rule, suppressing all oppositio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ss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70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28800" y="22845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73360" y="3632040"/>
            <a:ext cx="573696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zars Continue Autocratic R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overnment censors written criticism; secret poli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itor sch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n-Russians living in Russia are treated harsh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ews become target of government-back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groms (mob violen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1894, Nicholas II becomes czar, continu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utocratic w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773360" y="1598760"/>
            <a:ext cx="329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Russia Industrializ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80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1773360" y="2174760"/>
            <a:ext cx="57369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apid Industria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factories doubles between 1863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00; Russia still la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late 1800s, new plan boosts steel production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jor railway beg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73360" y="3708360"/>
            <a:ext cx="573696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Revolutionary Movement Gr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ustrialization breeds discontent over work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ditions, w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owing popularity of Marxist idea that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proletari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workers) will r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Bolshevik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Marxists who favor revolution by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mall committed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Len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Bolshevik leader—an excellent organiz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spiring lead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775160" y="1598760"/>
            <a:ext cx="42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Crises at Home and Abro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90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1773360" y="2174760"/>
            <a:ext cx="56466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Russo-Japanese W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eat in Russo-Japanese War of early 1900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uses unrest in Russ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1880" y="616104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73360" y="3146400"/>
            <a:ext cx="573696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loody Sunday: The Revolution of 19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1905, 200,000 workers march on czar’s palace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mand re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my fires into the crowd, killing m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ssacre leads to widespread unrest; Nichol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ced to make re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Duma, Russia’s first parliament, meets in 19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zar unwilling to share power; dissolves Duma aft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nly 10 wee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74800" y="2174760"/>
            <a:ext cx="546588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orld War I: The Final B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avy losses in World War I reveal government’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ak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icholas goes to war front; Czarina Alexand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uns gover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zarina falls under the influence of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Rasput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ysterious “holy ma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bles fear Rasputin’s influence, murder h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my losing effectiveness; people at hom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ungry and unhapp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80200" y="1690560"/>
            <a:ext cx="366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Crises at Home and Abroa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103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73360" y="1598760"/>
            <a:ext cx="34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The March Revol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110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1773360" y="2174760"/>
            <a:ext cx="57369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rst Ste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March 1917, strikes expand; soldiers refuse to fi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 work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73360" y="3137040"/>
            <a:ext cx="573696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Czar Steps D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 Revolution—protests become uprising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icholas abdicates thr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ma establishes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provision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or temporary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gover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Sovie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committees of Socialist revolutionaries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ol many c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73360" y="5213520"/>
            <a:ext cx="57369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enin Returns to Rus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April 1917, Germans aid Lenin in returning fr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ile to Russ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773360" y="1598760"/>
            <a:ext cx="39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The Bolshevik Revol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121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1773360" y="2174760"/>
            <a:ext cx="57369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Provisional Government Top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November 1917, workers take control of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over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73360" y="3156120"/>
            <a:ext cx="57369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olsheviks in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nin gives land to peasants, puts workers in contro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f facto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lsheviks sign treaty with Germany; Russia out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rld War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1880" y="616104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21:09:30Z</dcterms:created>
  <dc:creator>McDougal Littell</dc:creator>
  <dc:description/>
  <dc:language>en-US</dc:language>
  <cp:lastModifiedBy>Amy Kalas</cp:lastModifiedBy>
  <cp:lastPrinted>2003-11-12T20:33:16Z</cp:lastPrinted>
  <dcterms:modified xsi:type="dcterms:W3CDTF">2007-11-30T04:15:36Z</dcterms:modified>
  <cp:revision>861</cp:revision>
  <dc:subject/>
  <dc:title>No Slide Title</dc:title>
</cp:coreProperties>
</file>